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1.wmf" ContentType="image/x-wmf"/>
  <Override PartName="/ppt/media/image15.png" ContentType="image/png"/>
  <Override PartName="/ppt/media/image29.png" ContentType="image/png"/>
  <Override PartName="/ppt/media/image28.png" ContentType="image/png"/>
  <Override PartName="/ppt/media/image16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8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552-7045-4A81-B170-B4746B30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006-C7DE-4F52-BA26-81E2E9CF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6CA-6A68-47CF-AB12-40B63ED4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06A2-9058-4BEF-8B8B-FFD51BBE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E85-CBC4-41D2-8FD8-CDD24EF9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332-12CA-459D-82E8-C8B876BF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DFC-C57D-4F62-8500-08AF7CB6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5DD-956F-485C-AD6E-4CBB1C1C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D3E-0245-436E-91FC-8480C709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E511-7877-4882-8BC2-71746C19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6ED-31B8-4955-A050-BB5DCEAE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3276-BC98-412D-AC51-F7004B00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D840-F053-48B5-A6E9-8BB56F8E7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63248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o!  Mi chiamo ………  E tu, Come ti ch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cere, 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nto piac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3505320"/>
            <a:ext cx="2819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 anni h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dove se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 f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st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3200400"/>
            <a:ext cx="45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 15 a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canad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stud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 bene, graz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c’e’ male grazi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3920" y="4952880"/>
            <a:ext cx="0" cy="99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743200" y="34290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09680" y="403812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905120" y="4572000"/>
            <a:ext cx="1904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54864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066680"/>
            <a:ext cx="2743200" cy="1143000"/>
          </a:xfrm>
          <a:prstGeom prst="wedgeEllipseCallout">
            <a:avLst>
              <a:gd name="adj1" fmla="val -60416"/>
              <a:gd name="adj2" fmla="val 55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ST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2362320"/>
            <a:ext cx="3048120" cy="761760"/>
          </a:xfrm>
          <a:prstGeom prst="wedgeRoundRectCallout">
            <a:avLst>
              <a:gd name="adj1" fmla="val 42291"/>
              <a:gd name="adj2" fmla="val 954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gior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4114800"/>
            <a:ext cx="2209680" cy="1600200"/>
          </a:xfrm>
          <a:prstGeom prst="wedgeRectCallout">
            <a:avLst>
              <a:gd name="adj1" fmla="val -21481"/>
              <a:gd name="adj2" fmla="val -9176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EDIA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ES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04920"/>
            <a:ext cx="49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514600" y="457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267080" y="4572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5943600" y="457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772400" y="533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7848720" y="3352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6248520" y="33526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4267080" y="32767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2438280" y="3200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743200" cy="167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781680" y="2438280"/>
            <a:ext cx="1690920" cy="293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" y="3962520"/>
            <a:ext cx="2095560" cy="2463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267080" y="228600"/>
            <a:ext cx="1746360" cy="1781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191120" y="4572000"/>
            <a:ext cx="2501640" cy="1879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20574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ENZ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057400"/>
            <a:ext cx="2895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U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429000"/>
            <a:ext cx="2895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UTO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895480"/>
            <a:ext cx="1905120" cy="1447920"/>
          </a:xfrm>
          <a:prstGeom prst="wedgeEllipseCallout">
            <a:avLst>
              <a:gd name="adj1" fmla="val 4025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AN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1143000"/>
            <a:ext cx="2133720" cy="990720"/>
          </a:xfrm>
          <a:prstGeom prst="wedgeRectCallout">
            <a:avLst>
              <a:gd name="adj1" fmla="val -222"/>
              <a:gd name="adj2" fmla="val 94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NZI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52280"/>
            <a:ext cx="8763120" cy="64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514600"/>
            <a:ext cx="411480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 scusi, signore, mi sa dire dov’e’ piazza san Pietr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rto.  E’ laggiu’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zi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3048120"/>
            <a:ext cx="27432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ongiorno, sa dirmi l’or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o le dieci e mez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zie e arrivederci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5105520"/>
            <a:ext cx="4419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 favore, sa dirmi a che ora parte il tren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e alle nove e un quar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lte grazi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638680" y="533520"/>
          <a:ext cx="2438640" cy="18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533520"/>
                    <a:ext cx="243864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 txBox="1"/>
          <p:nvPr/>
        </p:nvSpPr>
        <p:spPr>
          <a:xfrm>
            <a:off x="838080" y="685800"/>
            <a:ext cx="3810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8900000" blurRad="0" rotWithShape="0">
                    <a:srgbClr val="868686"/>
                  </a:outerShdw>
                </a:effectLst>
                <a:latin typeface="Andy"/>
              </a:rPr>
              <a:t>Per strad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8900000" blurRad="0" rotWithShape="0">
                  <a:srgbClr val="868686"/>
                </a:outerShdw>
              </a:effectLst>
              <a:latin typeface="Andy"/>
              <a:ea typeface="Andy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76176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2666880" y="2819520"/>
          <a:ext cx="1625760" cy="1828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2819520"/>
                    <a:ext cx="1625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 txBox="1"/>
          <p:nvPr/>
        </p:nvSpPr>
        <p:spPr>
          <a:xfrm>
            <a:off x="3505320" y="3505320"/>
            <a:ext cx="633240" cy="71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ndy"/>
              </a:rPr>
              <a:t>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ndy"/>
              <a:ea typeface="Andy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7238880" y="3581280"/>
          <a:ext cx="1206720" cy="1155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8880" y="3581280"/>
                    <a:ext cx="120672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47920" y="5410080"/>
          <a:ext cx="1944720" cy="968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447920" y="5410080"/>
                    <a:ext cx="19447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80880"/>
            <a:ext cx="1905120" cy="60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o le dieci di mattina e andiamo a visitare il museo del Vaticano.  Il museo e’ grande e molto bello ma per arrivare li dobbiamo prendere l’autobus.  Saliamo sull’autobus e timbriamo il biglietto.  Arriviamo al museo alle dieci: paghiamo il biglietto e entriamo nel mus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 sono molte belle cose da vedere e siamo molto contenti.  Il museo chiude alle cinque e mezza.  Noi, dopo il museo, andiamo al ristorante per la ce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80880"/>
            <a:ext cx="327636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380880"/>
            <a:ext cx="23623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2209680"/>
            <a:ext cx="3200400" cy="403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809880"/>
            <a:ext cx="2286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80880" y="228600"/>
            <a:ext cx="2057400" cy="990720"/>
          </a:xfrm>
          <a:prstGeom prst="wedgeRectCallout">
            <a:avLst>
              <a:gd name="adj1" fmla="val -39583"/>
              <a:gd name="adj2" fmla="val 70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28600"/>
            <a:ext cx="2895480" cy="838080"/>
          </a:xfrm>
          <a:prstGeom prst="wedgeRoundRectCallout">
            <a:avLst>
              <a:gd name="adj1" fmla="val 26152"/>
              <a:gd name="adj2" fmla="val 10132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gior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304920"/>
            <a:ext cx="2666880" cy="1143000"/>
          </a:xfrm>
          <a:prstGeom prst="wedgeEllipseCallout">
            <a:avLst>
              <a:gd name="adj1" fmla="val -65296"/>
              <a:gd name="adj2" fmla="val 347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ase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371600"/>
            <a:ext cx="2666880" cy="1143000"/>
          </a:xfrm>
          <a:prstGeom prst="wedgeEllipseCallout">
            <a:avLst>
              <a:gd name="adj1" fmla="val 55537"/>
              <a:gd name="adj2" fmla="val 4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 pomerigg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743200"/>
            <a:ext cx="2895840" cy="533520"/>
          </a:xfrm>
          <a:prstGeom prst="wedgeRoundRectCallout">
            <a:avLst>
              <a:gd name="adj1" fmla="val 26152"/>
              <a:gd name="adj2" fmla="val 18779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es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0" y="1676520"/>
            <a:ext cx="2057400" cy="533160"/>
          </a:xfrm>
          <a:prstGeom prst="wedgeRectCallout">
            <a:avLst>
              <a:gd name="adj1" fmla="val -45291"/>
              <a:gd name="adj2" fmla="val 1044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a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962520"/>
            <a:ext cx="2057400" cy="990360"/>
          </a:xfrm>
          <a:prstGeom prst="wedgeRectCallout">
            <a:avLst>
              <a:gd name="adj1" fmla="val -38115"/>
              <a:gd name="adj2" fmla="val -104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ivederc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5257800"/>
            <a:ext cx="2895840" cy="838080"/>
          </a:xfrm>
          <a:prstGeom prst="wedgeRoundRectCallout">
            <a:avLst>
              <a:gd name="adj1" fmla="val 37444"/>
              <a:gd name="adj2" fmla="val -108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a not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1828800"/>
            <a:ext cx="2819160" cy="762120"/>
          </a:xfrm>
          <a:prstGeom prst="wedgeRectCallout">
            <a:avLst>
              <a:gd name="adj1" fmla="val 57092"/>
              <a:gd name="adj2" fmla="val 931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venu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2971800"/>
            <a:ext cx="2057400" cy="990720"/>
          </a:xfrm>
          <a:prstGeom prst="wedgeRectCallout">
            <a:avLst>
              <a:gd name="adj1" fmla="val 92902"/>
              <a:gd name="adj2" fmla="val -9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 viaggi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191120"/>
            <a:ext cx="2667240" cy="1143000"/>
          </a:xfrm>
          <a:prstGeom prst="wedgeEllipseCallout">
            <a:avLst>
              <a:gd name="adj1" fmla="val 55537"/>
              <a:gd name="adj2" fmla="val 4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a giorn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3352680"/>
            <a:ext cx="2819160" cy="1447920"/>
          </a:xfrm>
          <a:prstGeom prst="wedgeEllipseCallout">
            <a:avLst>
              <a:gd name="adj1" fmla="val -27587"/>
              <a:gd name="adj2" fmla="val -1211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a ser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181480"/>
            <a:ext cx="2133360" cy="1295640"/>
          </a:xfrm>
          <a:prstGeom prst="wedgeRectCallout">
            <a:avLst>
              <a:gd name="adj1" fmla="val -79462"/>
              <a:gd name="adj2" fmla="val -88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edia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5486400"/>
            <a:ext cx="2667240" cy="1143000"/>
          </a:xfrm>
          <a:prstGeom prst="wedgeEllipseCallout">
            <a:avLst>
              <a:gd name="adj1" fmla="val 58749"/>
              <a:gd name="adj2" fmla="val -7680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 appet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25909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238880" y="457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086600" y="4724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609480" y="21337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04920"/>
            <a:ext cx="4419720" cy="609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ongiorno, Mi chiamo Frances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ongiorn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 sono Sar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ivederc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 ho 70 anni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o sono una studente.  E t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 chiamo Paolo e ho 10 an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3341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4197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5053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25909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16765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304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ndy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ndy"/>
              <a:ea typeface="Andy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438280" y="3581280"/>
            <a:ext cx="838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ndy"/>
              </a:rPr>
              <a:t>1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ndy"/>
              <a:ea typeface="Andy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09680" y="19051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ndy"/>
              </a:rPr>
              <a:t>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ndy"/>
              <a:ea typeface="Andy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905120"/>
            <a:ext cx="83808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ndy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ndy"/>
              <a:ea typeface="Andy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6200" y="304920"/>
            <a:ext cx="7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ndy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ndy"/>
              <a:ea typeface="Andy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5000" y="22860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ndy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ndy"/>
              <a:ea typeface="Andy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96080" y="304920"/>
            <a:ext cx="68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ff"/>
                </a:solidFill>
                <a:latin typeface="Andy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ff"/>
              </a:solidFill>
              <a:latin typeface="Andy"/>
              <a:ea typeface="Andy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057400" y="30492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ndy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ndy"/>
              <a:ea typeface="Andy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62520" y="1905120"/>
            <a:ext cx="68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ndy"/>
              </a:rPr>
              <a:t>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ndy"/>
              <a:ea typeface="Andy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3581280"/>
            <a:ext cx="6858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ndy"/>
              </a:rPr>
              <a:t>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ndy"/>
              <a:ea typeface="Andy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0120" y="1905120"/>
            <a:ext cx="68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ndy"/>
              </a:rPr>
              <a:t>1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ndy"/>
              <a:ea typeface="Andy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1828800"/>
            <a:ext cx="6858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ndy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ndy"/>
              <a:ea typeface="Andy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96080" y="5181480"/>
            <a:ext cx="838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ndy"/>
              </a:rPr>
              <a:t>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ndy"/>
              <a:ea typeface="Andy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114800" y="3505320"/>
            <a:ext cx="838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ndy"/>
              </a:rPr>
              <a:t>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ndy"/>
              <a:ea typeface="Andy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943600" y="5181480"/>
            <a:ext cx="8380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ndy"/>
              </a:rPr>
              <a:t>1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ndy"/>
              <a:ea typeface="Andy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438280" y="5257800"/>
            <a:ext cx="83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ndy"/>
              </a:rPr>
              <a:t>1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ndy"/>
              <a:ea typeface="Andy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96080" y="3581280"/>
            <a:ext cx="83844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ndy"/>
              </a:rPr>
              <a:t>1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ndy"/>
              <a:ea typeface="Andy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343400" y="5181480"/>
            <a:ext cx="8380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ndy"/>
              </a:rPr>
              <a:t>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ndy"/>
              <a:ea typeface="Andy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43600" y="3429000"/>
            <a:ext cx="838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ndy"/>
              </a:rPr>
              <a:t>1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ndy"/>
              <a:ea typeface="Andy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62120" y="5334120"/>
            <a:ext cx="838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66"/>
                </a:solidFill>
                <a:latin typeface="Andy"/>
              </a:rPr>
              <a:t>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66"/>
              </a:solidFill>
              <a:latin typeface="Andy"/>
              <a:ea typeface="Andy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97180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7242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5530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124080" y="1447920"/>
          <a:ext cx="282096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447920"/>
                    <a:ext cx="282096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04920" y="380880"/>
            <a:ext cx="85341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echnical"/>
              </a:rPr>
              <a:t>Che ore sono?</a:t>
            </a:r>
            <a:r>
              <a:rPr b="0" lang="en-US" sz="4000" spc="-1" strike="noStrike">
                <a:solidFill>
                  <a:srgbClr val="000000"/>
                </a:solidFill>
                <a:latin typeface="Technic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echnic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echnic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echnical"/>
              </a:rPr>
              <a:t>Che ora e’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2590920" cy="1904760"/>
          </a:xfrm>
          <a:prstGeom prst="wedgeRoundRectCallout">
            <a:avLst>
              <a:gd name="adj1" fmla="val 49939"/>
              <a:gd name="adj2" fmla="val -66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tre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038480"/>
            <a:ext cx="3047760" cy="1981440"/>
          </a:xfrm>
          <a:prstGeom prst="wedgeRoundRectCallout">
            <a:avLst>
              <a:gd name="adj1" fmla="val 17865"/>
              <a:gd name="adj2" fmla="val -8405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nove m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n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1447920"/>
            <a:ext cx="2362320" cy="2895480"/>
          </a:xfrm>
          <a:prstGeom prst="wedgeRoundRectCallout">
            <a:avLst>
              <a:gd name="adj1" fmla="val -63643"/>
              <a:gd name="adj2" fmla="val -187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s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o cin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09480" y="685800"/>
          <a:ext cx="15940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15940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6553080" y="3962520"/>
          <a:ext cx="2097360" cy="21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3962520"/>
                    <a:ext cx="2097360" cy="21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248520" y="685800"/>
          <a:ext cx="2057400" cy="138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685800"/>
                    <a:ext cx="205740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876920" y="3809880"/>
            <a:ext cx="25905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un qua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19810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die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133720"/>
            <a:ext cx="35053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n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666880"/>
            <a:ext cx="266688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die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380880"/>
            <a:ext cx="32004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cinque e v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19051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029200"/>
            <a:ext cx="426708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: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o le otto meno un quar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0T03:31:20Z</dcterms:created>
  <dc:creator>Preferred Customer</dc:creator>
  <dc:description/>
  <dc:language>en-US</dc:language>
  <cp:lastModifiedBy>VALERIA PALLADINO</cp:lastModifiedBy>
  <dcterms:modified xsi:type="dcterms:W3CDTF">2003-10-16T15:22:57Z</dcterms:modified>
  <cp:revision>17</cp:revision>
  <dc:subject/>
  <dc:title>No Slide Title</dc:title>
</cp:coreProperties>
</file>